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17D2-AEF2-4058-A905-278642F1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451-2493-4E50-872C-B59EAE4A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E5B-3889-4BAF-BC76-4656027B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3A6A-DD28-4014-93CF-EF951C32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D4CD-E59F-4970-A3DB-5F037446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5FBB-A9F9-4798-A277-E6EB939B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5C4-0928-477A-8E0E-7A7B8770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303E-758B-43E2-89D0-D4E27D51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B29-98B1-4698-9ED5-F13C3D16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22B-2E49-4BC2-AE0A-18C3A2FD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185-779C-4B62-817E-DE663520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22A9-7CF0-4963-A970-BFF9017D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0717-82FE-4D8A-A5A0-C5D25AA96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4343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"/>
              </a:rPr>
              <a:t>Bienvenue à Abidjan!!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4000" spc="-1" strike="noStrike">
                <a:solidFill>
                  <a:srgbClr val="000000"/>
                </a:solidFill>
                <a:latin typeface="comic"/>
              </a:rPr>
              <a:t>Chapitre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-2286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L’Afriqu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76520" y="830160"/>
            <a:ext cx="609588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43240" y="0"/>
            <a:ext cx="3429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"/>
              </a:rPr>
              <a:t>Côte d’Ivoi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72200" y="1905120"/>
            <a:ext cx="2743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ille principale de la République de Côte d’Ivo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pulation : plus de 2.617.068 in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Capitale : Yamousouk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 plus grande ville : Abid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ngue officielle : le França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ouvernement : semi-présidenti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ésident : dispu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dépendance : 7 août 196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French Ru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18:06:30Z</dcterms:created>
  <dc:creator>asmith</dc:creator>
  <dc:description/>
  <dc:language>en-US</dc:language>
  <cp:lastModifiedBy>asmith</cp:lastModifiedBy>
  <dcterms:modified xsi:type="dcterms:W3CDTF">2010-12-13T22:34:38Z</dcterms:modified>
  <cp:revision>2</cp:revision>
  <dc:subject/>
  <dc:title>Bienvenue à Abidjan!!  Chapitre 7</dc:title>
</cp:coreProperties>
</file>